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DE3D-EAF7-4BA9-9B5A-4C4FC04E152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ch 20,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20, 200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orde supersonic airplane is 20 cm longer when in flight.  Explain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orde supersonic airplane is 20 cm longer when in flight.  Explain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jet flies, it experiences a huge amount of friction, which heats it up significantly.  This causes thermal expansion, and the plane lengthe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the jet flies, it experiences a huge amount of friction, which heats it up significantly.  This causes thermal expansion, and the plane length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emperature a measu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emperature a measur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kinetic energy of the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verage kinetic energy of the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step out of a swimming pool on a hot, dry day, you feel quite chilly.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step out of a swimming pool on a hot, dry day, you feel quite chilly.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er will start evaporating in the air.  Evaporation requires energy (heat) and that heat will come from your body.  Since you are losing heat, you will feel co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 gas give off or absorb energy when it turns into a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a gas give off or absorb energy when it turns into a sol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gives off energy, because it is going from high energy to low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off energy, because it is going from high energy to low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ap a fur coat around a thermometer.  Will its temperature rise?  Explain why or why n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old one end of a metal nail against a piece of ice, the end in your hand soon becomes cold.  Does cold flow from the ice to your hand?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m-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 a fur coat around a thermometer.  Will its temperature rise?  Explain why or why no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old one end of a metal nail against a piece of ice, the end in your hand soon becomes cold.  Does cold flow from the ice to your hand?  Expl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blowing over hot soup cool the s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es blowing over hot soup cool the s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ction cooling is a very effective method of hea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vection cooling is a very effective method of heat transf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till room, smoke will sometimes rise only so far, never reaching the ceiling.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still room, smoke will sometimes rise only so far, never reaching the ceiling.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ol cup of water is floated inside of a pot of water that is already boiling, will the water in the cup ever b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cool cup of water is floated inside of a pot of water that is already boiling, will the water in the cup ever bo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the thermometer will not heat up because it is the same temperature as the coat.  There has to be a difference in temperature in order for heat transfer to take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cold does not flow.  Heat flows from your hand to the nail to the ice.  Since your hand is losing heat, it feels cold.  HEAT is the only thing that f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cold does not flow.  Heat flows from your hand to the nail to the ice.  Since your hand is losing heat, it feels cold.  HEAT is the only thing that flow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why “firewalkers” can walk safely across a bed of red-hot coals in bare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lain why “firewalkers” can walk safely across a bed of red-hot coals in bare fee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ot cup of tea cools more rapidly than a lukewarm cup of tea, would it be correct to say that a hot cup of tea will cool to room temperature before a lukewarm cup of tea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Ques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because as it cools, the rate of heat transfer slows down until it is just as slow as the lukewarm cup of tea.  The only way to make it cool faster is by introducing convection.  (mpemba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A6236-77F1-40D5-9A40-3FAC3DB11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719B9-2FC3-4A9C-BE6C-4E9E96447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40BD5-5825-479E-AE94-5E671F2BA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82F57-9A97-433C-81C9-9B940DAFC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66362-378A-4DA2-AB48-07E78EFC99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91FC8-9266-4D59-82BB-D12676562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0A4D4-2320-4569-924F-E4D723FFF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8BF8E-2412-4CC2-935C-6762FDC1D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929C1-8727-43B5-BA76-056545FBD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A85D5-D230-443E-AE82-DFDA6145E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F5EE1-6E64-451A-B241-FEE01A813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BC84F-1904-4CC1-B252-3019D139A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24AA7-B4AD-47E8-B7EE-7CC0E5B04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C0B14-D4BF-42F5-83D0-C0553119B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5A731-8C11-4191-A0A8-8D55376DE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09CC85-64EB-46D1-B81C-E1C99922D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193F4-878C-4550-9DC7-F35149C21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7C368-70B4-43AC-B5FC-3AA84B728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C6832-85BF-44AC-B60C-0EDCC434B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66F04-415E-4A25-9F89-670196A93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DD37E-94FD-457E-BED1-929AF4E35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362F-6857-4E3C-83E4-76F4CE75F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35161-0EFD-44C5-9FD4-4AF5B9235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A70A0-73E7-4A11-A626-D0D9288F9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01FB3-50C3-4B08-A6AA-B408FFBA44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7"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B95A-0A19-4DEC-95E1-1BA85062D0B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eat Transfer</a:t>
            </a:r>
            <a:endParaRPr b="1" lang="en-US" sz="4800" spc="-1" strike="noStrike">
              <a:solidFill>
                <a:srgbClr val="ffffff"/>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ch 20,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Concorde supersonic airplane is 20 cm longer when in flight.  Explain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the jet flies, it experiences a huge amount of friction, which heats it up significantly.  This causes thermal expansion, and the plane lengthen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at is temperature a measure of?</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average kinetic energy of the particle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drop a hot rock into a pail of water, the temperature of the rock and the water will change until both are equal.  The rock will cool and the water will warm.  Is this true if the rock is dropped into the Atlantic Ocea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Yes, yes, yes!!!  Even though the Atlantic ocean is huge, the heat that leaves the rock enters the water (law of conservation of energy).  This means that the temperature will increase.  Since the ocean is a huge body of water, it will be an incredibly small change, but a change nonethel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en you step out of a swimming pool on a hot, dry day, you feel quite chilly.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water will start evaporating in the air.  Evaporation requires energy (heat) and that heat will come from your body.  Since you are losing heat, you will feel col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oes a gas give off or absorb energy when it turns into a soli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t gives off energy, because it is going from high energy to low energ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Warm-up</a:t>
            </a:r>
            <a:endParaRPr b="1" lang="en-US" sz="3900" spc="-1" strike="noStrike">
              <a:solidFill>
                <a:srgbClr val="ffffff"/>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rap a fur coat around a thermometer.  Will its temperature rise?  Explain why or why no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you hold one end of a metal nail against a piece of ice, the end in your hand soon becomes cold.  Does cold flow from the ice to your hand?  Explai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Why does blowing over hot soup cool the soup?</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onvection cooling is a very effective method of heat transf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Problem</a:t>
            </a:r>
            <a:endParaRPr b="1" lang="en-US" sz="3900" spc="-1" strike="noStrike">
              <a:solidFill>
                <a:srgbClr val="ffffff"/>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a still room, smoke will sometimes rise only so far, never reaching the ceiling.  Wh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smoke will be initially hot.  Since hot air is less dense than cool air it will rise.  However, it will cool as it rises until its density is the same as the density of the air in the room.  At that point, it will stop ris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Question</a:t>
            </a:r>
            <a:endParaRPr b="1" lang="en-US" sz="3900" spc="-1" strike="noStrike">
              <a:solidFill>
                <a:srgbClr val="ffffff"/>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a cool cup of water is floated inside of a pot of water that is already boiling, will the water in the cup ever boil?</a:t>
            </a:r>
            <a:endParaRPr b="0" lang="en-US" sz="3000" spc="-1" strike="noStrike">
              <a:solidFill>
                <a:srgbClr val="ffffff"/>
              </a:solidFill>
              <a:latin typeface="Arial"/>
            </a:endParaRPr>
          </a:p>
        </p:txBody>
      </p:sp>
      <p:sp>
        <p:nvSpPr>
          <p:cNvPr id="204" name="Rectangle 4"/>
          <p:cNvSpPr/>
          <p:nvPr/>
        </p:nvSpPr>
        <p:spPr>
          <a:xfrm>
            <a:off x="2133720" y="3886200"/>
            <a:ext cx="4190760" cy="1905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6"/>
          <p:cNvSpPr/>
          <p:nvPr/>
        </p:nvSpPr>
        <p:spPr>
          <a:xfrm>
            <a:off x="2133720" y="4267080"/>
            <a:ext cx="4190760" cy="152424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Rectangle 5"/>
          <p:cNvSpPr/>
          <p:nvPr/>
        </p:nvSpPr>
        <p:spPr>
          <a:xfrm>
            <a:off x="3733920" y="3809880"/>
            <a:ext cx="76176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7"/>
          <p:cNvSpPr/>
          <p:nvPr/>
        </p:nvSpPr>
        <p:spPr>
          <a:xfrm>
            <a:off x="2438280" y="5638680"/>
            <a:ext cx="15264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8"/>
          <p:cNvSpPr/>
          <p:nvPr/>
        </p:nvSpPr>
        <p:spPr>
          <a:xfrm>
            <a:off x="2819520" y="47242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9"/>
          <p:cNvSpPr/>
          <p:nvPr/>
        </p:nvSpPr>
        <p:spPr>
          <a:xfrm>
            <a:off x="3124080" y="50292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10"/>
          <p:cNvSpPr/>
          <p:nvPr/>
        </p:nvSpPr>
        <p:spPr>
          <a:xfrm>
            <a:off x="3048120" y="5410080"/>
            <a:ext cx="15228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11"/>
          <p:cNvSpPr/>
          <p:nvPr/>
        </p:nvSpPr>
        <p:spPr>
          <a:xfrm>
            <a:off x="327672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12"/>
          <p:cNvSpPr/>
          <p:nvPr/>
        </p:nvSpPr>
        <p:spPr>
          <a:xfrm>
            <a:off x="2438280" y="48769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13"/>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14"/>
          <p:cNvSpPr/>
          <p:nvPr/>
        </p:nvSpPr>
        <p:spPr>
          <a:xfrm>
            <a:off x="2590920" y="53341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15"/>
          <p:cNvSpPr/>
          <p:nvPr/>
        </p:nvSpPr>
        <p:spPr>
          <a:xfrm>
            <a:off x="4572000" y="48769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Oval 16"/>
          <p:cNvSpPr/>
          <p:nvPr/>
        </p:nvSpPr>
        <p:spPr>
          <a:xfrm>
            <a:off x="2590920" y="51055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Oval 17"/>
          <p:cNvSpPr/>
          <p:nvPr/>
        </p:nvSpPr>
        <p:spPr>
          <a:xfrm>
            <a:off x="4724280" y="525780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Oval 18"/>
          <p:cNvSpPr/>
          <p:nvPr/>
        </p:nvSpPr>
        <p:spPr>
          <a:xfrm>
            <a:off x="4724280" y="4648320"/>
            <a:ext cx="15264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Oval 19"/>
          <p:cNvSpPr/>
          <p:nvPr/>
        </p:nvSpPr>
        <p:spPr>
          <a:xfrm>
            <a:off x="4572000" y="5562720"/>
            <a:ext cx="152280" cy="152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a:off x="3733920" y="4343400"/>
            <a:ext cx="761760" cy="4572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r>
              <a:rPr b="1" lang="en-US" sz="3900" spc="-1" strike="noStrike">
                <a:solidFill>
                  <a:srgbClr val="ffffff"/>
                </a:solidFill>
                <a:latin typeface="Arial"/>
              </a:rPr>
              <a:t>	</a:t>
            </a:r>
            <a:r>
              <a:rPr b="1" lang="en-US" sz="3900" spc="-1" strike="noStrike">
                <a:solidFill>
                  <a:srgbClr val="ffffff"/>
                </a:solidFill>
                <a:latin typeface="Arial"/>
              </a:rPr>
              <a:t> </a:t>
            </a:r>
            <a:endParaRPr b="1" lang="en-US" sz="3900" spc="-1" strike="noStrike">
              <a:solidFill>
                <a:srgbClr val="ffffff"/>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Heat will transfer from the boiling water to the cool water until the two are the same temperature.  At that point, there will be no more net heat transfer.  In order for the water in the cup to boil, it needs more heat after it reaches 100 degrees Celsius.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the thermometer will not heat up because it is the same temperature as the coat.  There has to be a difference in temperature in order for heat transfer to take place</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cold does not flow.  Heat flows from your hand to the nail to the ice.  Since your hand is losing heat, it feels cold.  HEAT is the only thing that flow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plain why “firewalkers” can walk safely across a bed of red-hot coals in bare fee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cause the rate of heat transfer is slow, because coals are not very good conductors.  If they walk fast enough, there is only a small amount of heat transferred to their feet, and they do not bur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f heat transfers from hot to cold, and stops when the two objects reach the same temperature, explain why it is possible for the inside of your car to be hotter than the air outside on a hot summer da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greenhouse effect.  Electromagnetic waves from the sun enter your car through the windows and are absorbed by the seats and other objects in the car.  They then re-emit electromagnetic radiation of a different wavelength that cannot pass through glass.  All of that energy is therefore trapped inside the car, causing the temperature to rise.</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Practice Question</a:t>
            </a:r>
            <a:endParaRPr b="1" lang="en-US" sz="3900" spc="-1" strike="noStrike">
              <a:solidFill>
                <a:srgbClr val="ffffff"/>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nce a hot cup of tea cools more rapidly than a lukewarm cup of tea, would it be correct to say that a hot cup of tea will cool to room temperature before a lukewarm cup of tea will?</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nswer</a:t>
            </a:r>
            <a:endParaRPr b="1" lang="en-US" sz="3900" spc="-1" strike="noStrike">
              <a:solidFill>
                <a:srgbClr val="ffffff"/>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o, because as it cools, the rate of heat transfer slows down until it is just as slow as the lukewarm cup of tea.  The only way to make it cool faster is by introducing convection.  (mpemba effec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00:06:33Z</dcterms:created>
  <dc:creator>MDS</dc:creator>
  <dc:description/>
  <dc:language>en-US</dc:language>
  <cp:lastModifiedBy>RomaK</cp:lastModifiedBy>
  <dcterms:modified xsi:type="dcterms:W3CDTF">2015-09-03T12:29:35Z</dcterms:modified>
  <cp:revision>10</cp:revision>
  <dc:subject/>
  <dc:title>Heat Transfer</dc:title>
</cp:coreProperties>
</file>